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B6F-D911-4275-99B0-CF2C6565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F7A-2907-475A-9605-5F8E38F8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D2F-A394-464F-B790-803B484A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CF4-BA50-4493-B992-E0614FA4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994-D396-4081-9063-5E994115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96E-9041-4B84-AE8E-AECF24AE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589-790E-46CF-A5C6-AD56B310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9BD-5A85-46B6-ADE0-DF90BB43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AB8-64AC-499E-BB95-7B111819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C95-05EF-4DCF-9ED3-0481036D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EA6-EF31-4E3D-85B5-2C31F776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D1A-4E7C-48D0-A435-078D2DED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A13B-8F56-4D3F-ACDD-A75020D49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18:24:39Z</dcterms:created>
  <dc:creator>sssd</dc:creator>
  <dc:description/>
  <dc:language>en-US</dc:language>
  <cp:lastModifiedBy>sssd</cp:lastModifiedBy>
  <dcterms:modified xsi:type="dcterms:W3CDTF">2008-07-27T18:28:47Z</dcterms:modified>
  <cp:revision>1</cp:revision>
  <dc:subject/>
  <dc:title>PowerPoint Presentation</dc:title>
</cp:coreProperties>
</file>